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A69-D5D9-4F50-A35D-C6B498F5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95A-6E81-4934-99E0-EE572CDD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591-4289-4AE8-A36A-8C04C8E5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C3D-81F5-46AF-BD67-459001DA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A8B-B71C-495B-95D6-47184AA4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0CC-01D9-4095-9A71-18A9616A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823-60F9-41B6-88DA-DA46A384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143-9AE2-43E5-8768-55D7D1EF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EE9-A5FE-4409-953C-4EBAEAC0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1BD-DBEB-49EC-9813-B136788F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5F4-9A18-44CC-9EDC-F92C9699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AC3-2AFC-4131-A7C8-940E0BD8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62A3-0971-428B-9B4B-6F65989D1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352680"/>
            <a:ext cx="2362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Here lies Ebenezer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croog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BAH HUMBUG!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2"/>
          <p:cNvSpPr/>
          <p:nvPr/>
        </p:nvSpPr>
        <p:spPr>
          <a:xfrm rot="16200000">
            <a:off x="5598000" y="3164400"/>
            <a:ext cx="3662640" cy="26672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3657600"/>
            <a:ext cx="2057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lies Ebenezer Scroo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BLESS EVERYONE!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Guest</cp:lastModifiedBy>
  <dcterms:modified xsi:type="dcterms:W3CDTF">2009-12-09T22:51:01Z</dcterms:modified>
  <cp:revision>7</cp:revision>
  <dc:subject/>
  <dc:title>Slide 1</dc:title>
</cp:coreProperties>
</file>